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E159-436F-4B49-8C9F-B69BDDE6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187-A213-409D-A2A3-25E41B32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8A02-439F-4AC6-A447-FAD1510F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564D-6DED-4ACB-88A3-032D7F01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BE24-CCC6-4E31-ABCE-04B5119B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D9BC-D21D-4807-91D3-6C53FF7F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ED1-EBB7-4CF6-B910-F1F42E6F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E92-64C1-4400-8605-336CFE84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1C9E-852E-47D8-94ED-0CA653CC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CCAB-80BA-43D7-B461-8FA82762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BC5-628B-4A39-930D-8D97ABB9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807-9BC1-436C-ABA5-0E326417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3536-467D-442E-9924-30DF652E5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kentucky.shtml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enchantedlearning.com/usa/flags/kentucky/kentuckyflag.s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birds/printouts/Cardinalprintout.shtml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enchantedlearning.com/subjects/butterfly/activities/printouts/viceroyprintout.shtml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80360" y="4952880"/>
            <a:ext cx="162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ob Ryg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17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905120"/>
            <a:ext cx="62485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Impact"/>
              </a:rPr>
              <a:t>Kentuck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99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16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tucky Song: Fifty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ntuc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/25/11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FiftyState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: Frank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: 4,041,7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it Entered the Union: June,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17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Entered the Union: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to: United we Stand, Divided we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kname: Blue Grass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: Golden R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: Card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g: My old Kentucky Home By Stephan Fo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 Behind Name: Kentucky is from the Iroquois Indians word ken-tah-ten which means land of Tomorr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facts: State Gem stone is the Fortification Agate with red and black and yellow Banding. State mineral is Coal. The state insect is the Viceroy butterf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52280"/>
            <a:ext cx="4472280" cy="299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4119480"/>
            <a:ext cx="4724640" cy="2549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240" y="3352680"/>
            <a:ext cx="90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 From 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ntuc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10/25/11, http://www.enchantedlearning.com/usa/states/kentuck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55400" y="525780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Kentu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0560" y="140796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map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tu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72280" y="228600"/>
            <a:ext cx="2728800" cy="2971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4753080"/>
            <a:ext cx="3048120" cy="1876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342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 From 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ntuc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/25/11, http://www.enchantedlearning.com/usa/states/kentuck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76720" y="5599080"/>
            <a:ext cx="497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Kentucky's State insect.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roy butterf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4960" y="1712880"/>
            <a:ext cx="37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Kentucky’s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d the Card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All images Copyright © 1997 - 2000 WriteLine. All Rights Reserved. Natural Bridge"/>
          <p:cNvPicPr/>
          <p:nvPr/>
        </p:nvPicPr>
        <p:blipFill>
          <a:blip r:embed="rId1"/>
          <a:stretch/>
        </p:blipFill>
        <p:spPr>
          <a:xfrm>
            <a:off x="609480" y="1143000"/>
            <a:ext cx="7620120" cy="441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2120" y="30492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Natural Bridge in Slade Kentucky. It’s a 40-foot thick natural sandstone bridge that spans 85 feet over a hill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586728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from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ntuc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10/25/11, http://www.postcardsfrom.com/t1/991028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0Z</dcterms:created>
  <dc:creator>install</dc:creator>
  <dc:description/>
  <dc:language>en-US</dc:language>
  <cp:lastModifiedBy>install</cp:lastModifiedBy>
  <dcterms:modified xsi:type="dcterms:W3CDTF">2011-10-27T13:38:26Z</dcterms:modified>
  <cp:revision>13</cp:revision>
  <dc:subject/>
  <dc:title>Slide 1</dc:title>
</cp:coreProperties>
</file>